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190-E57C-4FFA-9240-CE4CEFA1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80A-C892-430C-A239-F2F56D2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CDA-C3B8-4A5A-A5B9-C466F3D7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F30-AD1B-4C66-AAD5-5DAD5662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5628-4B56-4513-85B5-790FD0BD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7629-A9DA-4571-B10A-4E387813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550B-9E19-4CE1-A44B-D26ED6F3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3D74-0CA7-4F2C-80F7-5107DE64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AB8B-F8AD-4D3C-8C9E-E91CB624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2768-EDBC-442D-934A-D11984DF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5AC7-256F-4A8A-B802-34A3F00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042-259D-463D-8E40-B930B38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4B2B-272D-4435-885A-A8D29CB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5FB2-73D0-4CB9-98F2-2DF9CE4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5C76-7588-438F-ABE1-430A55D8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C0B7-7811-4B29-B85B-4C5C2BD7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AA51-A861-4EBA-8CA1-5FF7D6AA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E77-F340-402A-9776-A3E4B76F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65D-2E7D-4341-A31A-855BFBF8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2B4-3EE6-475E-BE42-E52E905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18C-567A-4374-BD3A-03A64C54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B63-47DC-4293-A753-CEB00E10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ECF-41A6-4812-87C4-0850E7C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BBD-0F32-4256-A92C-43401FF8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F330-4A97-4EA6-86C2-E5210513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22AE-D7F9-4BD4-97DA-803610141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tannica.com/eb/art-67710/Button-from-John-F-Kennedys-1960-US-presidential-campaign?articleTypeId=1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e/Nixon_while_in_US_Congres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F._Kennedy%2C_White_House_color_photo_portrait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 and His New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 Fronti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’s Deat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Kennedy went to Dallas to try and stir up support for his programs, he was assassinated on November 22, 196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he was killed, it seemed as if time stopped in this count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also affected people around the globe specifically allies that Kennedy had made in many third world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President Kennedy with his wife, Jacqueline, and Texas Governor John Connally in the presidential limousine shortly before his assassination"/>
          <p:cNvPicPr/>
          <p:nvPr/>
        </p:nvPicPr>
        <p:blipFill>
          <a:blip r:embed="rId1"/>
          <a:stretch/>
        </p:blipFill>
        <p:spPr>
          <a:xfrm>
            <a:off x="5029200" y="2438280"/>
            <a:ext cx="3657600" cy="292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yndon B. Johns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yndon B. Johnson would take over for Kenned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nly 5 days after Kennedy’s death, Johnson made a speech to the American public saying he would continue on with JFK’s pla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came up with a new term for the new America called the Great Socie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john_k2"/>
          <p:cNvPicPr/>
          <p:nvPr/>
        </p:nvPicPr>
        <p:blipFill>
          <a:blip r:embed="rId1"/>
          <a:stretch/>
        </p:blipFill>
        <p:spPr>
          <a:xfrm>
            <a:off x="5638680" y="2743200"/>
            <a:ext cx="28576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Great Socie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 tried to fight poverty, pollution, unemployment, discrimination, and everything else that was wrong with this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fight poverty and unemployment, Johnson launched the Office of Economic Opport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6" descr="Lyndon B. Johnson"/>
          <p:cNvPicPr/>
          <p:nvPr/>
        </p:nvPicPr>
        <p:blipFill>
          <a:blip r:embed="rId1"/>
          <a:stretch/>
        </p:blipFill>
        <p:spPr>
          <a:xfrm>
            <a:off x="5715000" y="236232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fice of Economic Opportunit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rganization sent workers to poor neighborhoods to help people get back on their f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b Corps, Project Head Start, and the Elementary and Secondary Education Act were all examples of Johnson’s war on pov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re Johnson Progra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hnson passed the Medicare Act through Cong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 responded to immigration by passing the Immigration Act which allowed more people from the far east and deleted the national quota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overnment Spend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n with all the good things Johnson was attempting to do, his government spending was out of h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Vietnam War was part of the problem because it was eating up $20 billion a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6" descr="300px-Saigon_T-54"/>
          <p:cNvPicPr/>
          <p:nvPr/>
        </p:nvPicPr>
        <p:blipFill>
          <a:blip r:embed="rId1"/>
          <a:stretch/>
        </p:blipFill>
        <p:spPr>
          <a:xfrm>
            <a:off x="5334120" y="2666880"/>
            <a:ext cx="3581280" cy="24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960’s: An Importan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ring Johnson presidency, the American public had become deeply divi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had seen the emergence of the youth during this time, but we also saw three of the most important young people killed (JFK, Martin Luther King Jr., and Robert Kenned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 would continue into Nixon’s presidenc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e Election of 1960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ichard Milhouse Nixon ran against John F. Kenne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se two candidates were about as different as any two people could b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Photograph:Button from John F. Kennedy's 1960 U.S. presidential campaig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666880"/>
            <a:ext cx="2667240" cy="263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ichard Nix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ixon was a young candi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came from a poor fami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lieved communism was America’s worst enem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ixon was a very good radio debater, but people who watched the debates on T.V. thought Kennedy won because he was attracti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6" descr="Image:Nixon while in US Congre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38280"/>
            <a:ext cx="237816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John F. Kenned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very young candid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me from a very rich fami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lieved communism was America’s worst enem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od television speaker and due to his good looks many believed he would win the el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nnedy won the election by one of the smallest margins in hist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6" descr="98px-John_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743200"/>
            <a:ext cx="211608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’s “New Frontier”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as an extension of FDR’s New Deal and Truman’s Fair D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nnedy will quickly be at odds with business leaders in the United States, especially in ste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James Meredith escorted by soldiers"/>
          <p:cNvPicPr/>
          <p:nvPr/>
        </p:nvPicPr>
        <p:blipFill>
          <a:blip r:embed="rId1"/>
          <a:stretch/>
        </p:blipFill>
        <p:spPr>
          <a:xfrm>
            <a:off x="6095880" y="2743200"/>
            <a:ext cx="245916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 and Ste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nnedy told steel companies to hold down prices to allow economic growth, but they didn’t lis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 threatened them by saying the US would buy foreign steel and sent the Justice Department to investigate their business pract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The U.S. Steel Tower in downtown Pittsburgh."/>
          <p:cNvPicPr/>
          <p:nvPr/>
        </p:nvPicPr>
        <p:blipFill>
          <a:blip r:embed="rId1"/>
          <a:stretch/>
        </p:blipFill>
        <p:spPr>
          <a:xfrm>
            <a:off x="6019920" y="228600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ther “New Frontier” Ide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Kennedy went to work on funding public schools by passing new bil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tried fighting poverty in the South and in big 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 supported the Area Development Act which encouraged businesses to move into economically depressed 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Housing Act asked for $5 billion for urban renew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144px-John_F"/>
          <p:cNvPicPr/>
          <p:nvPr/>
        </p:nvPicPr>
        <p:blipFill>
          <a:blip r:embed="rId1"/>
          <a:stretch/>
        </p:blipFill>
        <p:spPr>
          <a:xfrm>
            <a:off x="5867280" y="2514600"/>
            <a:ext cx="220500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AS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of Kennedy’s biggest accomplishments was the National Aeronautics and Space Administration (NAS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 of this reason was to compete with the Soviets in the Cold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6" descr="Space Shuttle with payload bay doors open."/>
          <p:cNvPicPr/>
          <p:nvPr/>
        </p:nvPicPr>
        <p:blipFill>
          <a:blip r:embed="rId1"/>
          <a:stretch/>
        </p:blipFill>
        <p:spPr>
          <a:xfrm>
            <a:off x="5715000" y="2971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Kennedy at Odd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nnedy was frequently at odds with the legislative branc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thern senators and representatives blocked many of the measures that he tried to pass partly because he was for civil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kingkennedy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262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9:51Z</dcterms:created>
  <dc:creator>Erica Beaule</dc:creator>
  <dc:description/>
  <cp:keywords/>
  <dc:language>en-US</dc:language>
  <cp:lastModifiedBy>Sacerdote, Kevin R.</cp:lastModifiedBy>
  <dcterms:modified xsi:type="dcterms:W3CDTF">2016-02-26T13:55:21Z</dcterms:modified>
  <cp:revision>5</cp:revision>
  <dc:subject/>
  <dc:title>PowerPoint Presentation  -  Kennedy and His New Frontier</dc:title>
</cp:coreProperties>
</file>